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7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8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FA8C-483B-4EBF-BEE6-450E7F42B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5401-EFE6-4255-97E7-C3DD4743F5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44B81-4EEF-4CD5-BC98-1070A07ED4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BE498-DD14-4746-B4DE-C7CE386FA2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38B74-9F2D-4C37-A038-3A4FF24536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664A0-C7D6-445D-B321-2537097F1C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9B9D8-7D78-4EA9-9083-88CCD25DAC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F696F-DD88-4981-A753-8907E42E947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6A70C-1248-43BE-BC18-9B6990FA94D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7DE36-66A8-44DA-9C18-EE1F3843ECE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7801C-CE58-4B85-B675-ED02EAACB7E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68F54-8EB0-4D18-8A7E-89C64E11DF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66A13-3592-4B95-A99C-296A62274CC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ECD62-09EF-4A29-B9A7-57418ECBD5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C3851-9D65-4BFC-83F5-25C3B909EA5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F3724-A261-4AFF-9788-E528E39E9E3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E082C-41C3-4518-8E50-91F8CF62F0D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A0B26-6A52-45D7-9D0F-3E30E760AD1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08DC1-3DBD-4B76-A74B-1B80EA1E7FB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63C9A-CB5F-4CA9-9A25-76A52F1EE46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28C01-013E-4F48-994E-BAE25D1A2D7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F996F-8EC8-4F70-9BA0-E6C48359B52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3F0AE-CDD0-49F4-B1B6-68E2A4EECFD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9E2E1-5E82-4CEB-83DD-814C1BF7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9FCA4-4929-4FD7-814F-04911A27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6F041-62C9-4C47-940B-F2DB5DEF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1B7C0-DD63-4674-9010-C89B0631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04816-ED35-408A-A2B2-38FF48C6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2B426-6C7D-4A31-847E-D84A8634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E28B0-EC4C-4C1A-AAF5-9281CE30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DEF87-1439-470C-9103-BAB00AD5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F2F10-EFDB-4020-9BFE-3DE43D90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82F29-2922-433B-8B1F-F8C36DCECD4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65014-3321-45CD-B0BD-47AE7C6A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46D4F-3B34-4A4D-B99E-66D7A31F0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454A3-6E8A-4315-8A5F-1CAAC11E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5EE01-07EC-405E-800F-073F5B65E2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6775C-566B-47DB-9349-B2F7E80527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E960-5054-4EE1-9F97-71C944F675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3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8706960" y="64213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E27A-FB91-4CB6-A1FB-01B4E75621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21337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AR_WA_partners.jpg"/>
          <p:cNvPicPr/>
          <p:nvPr/>
        </p:nvPicPr>
        <p:blipFill>
          <a:blip r:embed="rId4"/>
          <a:stretch/>
        </p:blipFill>
        <p:spPr>
          <a:xfrm>
            <a:off x="1295280" y="3809880"/>
            <a:ext cx="6782040" cy="2471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5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131B-213B-420D-8735-018664B0A1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371240" y="1752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O1 group work repor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52120" y="3581280"/>
            <a:ext cx="54104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hirou, Sibiry, Gatien, Joseph, Naomie, Jerome, Annie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1 Construction of development domains within and across the project mega-site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development domains developed so far by IFPRI require more granular data to become relevant within the GS megasite, including: ethnic/linguistic layers, livestock density, LGP, landscape physiography / elev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cedure already applied for Ghana can be replicated in Mali and improved with feedback to Gha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PRI (Chris) will continue to lead that activity until complete, including field visits to be organized in conjunction with activity 1.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CRISAT (Sibiry) will provide supplementary granular data to IFPRI (Chris) for stratification and domain delineation within the GS megasi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CRISAT (Eva) will help organize Mali field visits by IFPRI (Chris) before end of Decemb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2 Identification of action research sites within the development domains of each mega-site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d statement in project document on consultation with local partn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ed to identify Mali units of analysis similar to Ghana districts 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ercl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vs.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rrondissemen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vs.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secteur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s.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ommun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ity can be executed concurrently with 1.1 (development domain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y participants should include: Carlo, Chris, Sibiry, Larbi, Tahiro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ridging the scale gap in site selection should not only be through partners / expert opinion but also informed by more granular GIS data (cf. 1.1 abov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roup felt that there is flexibility still possible in action and/or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contro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ites finalization in UER and N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3 Establishment of R4D platform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milar to Tanzania, Malawi and Ghana, need to review and inventory current FtF investments in Mali – where are they made, who was contracted for platform establishment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pportunity to expand existing innovations platforms into R4D platforms (more dynamic, proactiv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treatment site where there is no R4D platform (control sites will be selected outside the intervention domain of R4D platform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Mali, potential scale mismatch between administrative divisions and critical mass of villages for R4D platfor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4 Collect baseline information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HH survey instrument for the BL? What level of customization for AR objectives / approache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sue of subcontracting for BL survey administration: IPA or likes? Level of subcontracting? Training only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L data will not be used to revise action / control site sele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L data may be used to guide deployment of technology-based interventions (agronomy/farm-level) but likely not process-based interventions (community/landscape-leve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5 Construction of farm household typologie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PRI (Naomie) will lead with IITA (Bernard) inputs for CRP1.2 areas and ICRISAT (Gatien) inputs for CRP1.1 are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6 Inventorize innovation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7 Identification and prioritization of innovations addressing major constraint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icipatory modeling?? -&gt; participatory scenario analysis (to avoid over-commitmen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23232"/>
                </a:solidFill>
                <a:latin typeface="Calibri"/>
              </a:rPr>
              <a:t>Sequencing, responsibility, funding of O1 activities</a:t>
            </a:r>
            <a:endParaRPr b="0" lang="en-US" sz="29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57200" y="981000"/>
          <a:ext cx="8218440" cy="5770800"/>
        </p:xfrm>
        <a:graphic>
          <a:graphicData uri="http://schemas.openxmlformats.org/drawingml/2006/table">
            <a:tbl>
              <a:tblPr/>
              <a:tblGrid>
                <a:gridCol w="3319560"/>
                <a:gridCol w="650880"/>
                <a:gridCol w="576000"/>
                <a:gridCol w="576360"/>
                <a:gridCol w="576360"/>
                <a:gridCol w="719280"/>
                <a:gridCol w="649080"/>
                <a:gridCol w="1150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 Domains: IFPRI-Chris (L), ICRISAT-Sibi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 Sites: IFPRI-Carlo (L), IFPRI-Chris, IITA-Larbi, ICRISAT-Sibi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 50%, IITA/ICRISAT 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 Platforms: IITA-Larbi (L), ICRISAT-Eva (co-L), ICRAF-Joach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TA/ICRISAT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 Baselines: IFPRI-Carlo (L), IFPRI-M&amp;E officer, IITA-Tahirou, ICRAF-Joachim, ICRISAT-Ma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 Typologies: IFPRI-Naomie (L), IITA-Bernard, ICRISAT-Gati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 50%, CRP1.1/1.2 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 Innovations: IITA-Larbi (L), ICRISAT-Eva (co-L), M&amp;E offic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 50%, IITA/ICRISAT 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 Prioritizations: IITA-Larbi (L), ICRISAT-Eva (co-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TA/ICRISAT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 Synthe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3:59:44Z</dcterms:created>
  <dc:creator>IZeledon</dc:creator>
  <dc:description/>
  <dc:language>en-US</dc:language>
  <cp:lastModifiedBy>LeBorgne, Ewen (ILRI)</cp:lastModifiedBy>
  <cp:lastPrinted>2011-10-06T11:45:23Z</cp:lastPrinted>
  <dcterms:modified xsi:type="dcterms:W3CDTF">2012-10-30T10:21:02Z</dcterms:modified>
  <cp:revision>20</cp:revision>
  <dc:subject/>
  <dc:title>Slide 1</dc:title>
</cp:coreProperties>
</file>